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260-72BE-47CF-81C0-A83A4282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D6D-B05C-455C-A1D4-5EC01EC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565-0B76-4EFC-AB76-77E858FF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77D-A616-4A63-8734-7A85DB97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12F-746B-4E4B-B26F-5DEC4A0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A66-0744-44B4-AFCE-736AD76C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F14-C1EF-4451-B2C4-E6255D8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461-A5AE-433D-812C-199B877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E60-F812-4EAF-8521-5808E890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BDA-E04D-4E2D-BCE6-F5C4459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CDD-0142-4B33-8258-9717F3E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E85-9B1C-4384-B948-B06EAED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652C-457B-45C5-BBE0-3249662C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-636840"/>
            <a:ext cx="6821640" cy="496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6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я е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 тишин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иж, витлеемската светла звезд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мъдреци води от чужда стран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дето Христос се роди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67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238400" y="-27720"/>
            <a:ext cx="888264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сен сега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а похвал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ангели пеят със радостен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ест за спасение донасят до нас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"Ето, Спасител дойде!"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5960" y="-27720"/>
            <a:ext cx="970128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я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й с веселб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очит на Бога нек всеки дад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че между нас днес Спасител дойд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Мир за всегда на земя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20:22Z</dcterms:created>
  <dc:creator>TrifonTrifonow</dc:creator>
  <dc:description/>
  <dc:language>en-US</dc:language>
  <cp:lastModifiedBy>TrifonTrifonow</cp:lastModifiedBy>
  <dcterms:modified xsi:type="dcterms:W3CDTF">2005-11-22T07:25:54Z</dcterms:modified>
  <cp:revision>7</cp:revision>
  <dc:subject/>
  <dc:title>Slide 1</dc:title>
</cp:coreProperties>
</file>